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9AC-5B5D-433F-8D1F-9C6FBC71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5AB-FE0E-418F-916A-69465DA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5D6-471A-4CD9-809A-62AF14D1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80B-769F-4BFD-BE7D-D448E736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A80-2AB2-4BC2-B73D-D44908BA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F62-882A-4525-B738-03128ADC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43D-566D-452E-AD37-F1935DC0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B30-28FD-40C4-8E45-479BD102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FF6-966E-4054-9942-C6B8B35D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6C1-5473-4CF0-B3A2-61A330C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DC0-AFAD-483D-BA41-EAFB4CE4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5C6-E8F0-490F-A741-392A3CF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3F39-3128-4D74-A775-95B5E3F07E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tech.edu/academics/program.php?id=152" TargetMode="External"/><Relationship Id="rId2" Type="http://schemas.openxmlformats.org/officeDocument/2006/relationships/hyperlink" Target="http://www.sctech.edu/academics/program.php?id=145" TargetMode="External"/><Relationship Id="rId3" Type="http://schemas.openxmlformats.org/officeDocument/2006/relationships/hyperlink" Target="http://www.sctech.edu/academics/program.php?id=90" TargetMode="External"/><Relationship Id="rId4" Type="http://schemas.openxmlformats.org/officeDocument/2006/relationships/hyperlink" Target="http://www.sctech.edu/academics/program.php?id=106" TargetMode="External"/><Relationship Id="rId5" Type="http://schemas.openxmlformats.org/officeDocument/2006/relationships/hyperlink" Target="http://www.sctech.edu/academics/program.php?id=107" TargetMode="External"/><Relationship Id="rId6" Type="http://schemas.openxmlformats.org/officeDocument/2006/relationships/hyperlink" Target="http://www.sctech.edu/academics/program.php?id=146" TargetMode="External"/><Relationship Id="rId7" Type="http://schemas.openxmlformats.org/officeDocument/2006/relationships/hyperlink" Target="http://www.sctech.edu/academics/program.php?id=144" TargetMode="External"/><Relationship Id="rId8" Type="http://schemas.openxmlformats.org/officeDocument/2006/relationships/hyperlink" Target="http://www.sctech.edu/academics/program.php?id=147" TargetMode="External"/><Relationship Id="rId9" Type="http://schemas.openxmlformats.org/officeDocument/2006/relationships/hyperlink" Target="http://www.sctech.edu/academics/program.php?id=130" TargetMode="External"/><Relationship Id="rId10" Type="http://schemas.openxmlformats.org/officeDocument/2006/relationships/hyperlink" Target="http://www.sctech.edu/academics/program.php?id=150" TargetMode="External"/><Relationship Id="rId11" Type="http://schemas.openxmlformats.org/officeDocument/2006/relationships/hyperlink" Target="http://www.sctech.edu/academics/program.php?id=64" TargetMode="External"/><Relationship Id="rId12" Type="http://schemas.openxmlformats.org/officeDocument/2006/relationships/hyperlink" Target="http://www.sctech.edu/academics/program.php?id=101" TargetMode="External"/><Relationship Id="rId13" Type="http://schemas.openxmlformats.org/officeDocument/2006/relationships/hyperlink" Target="http://www.sctech.edu/academics/program.php?id=105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www.sctech.edu/academics/program.php?id=138" TargetMode="External"/><Relationship Id="rId16" Type="http://schemas.openxmlformats.org/officeDocument/2006/relationships/hyperlink" Target="http://www.sctech.edu/academics/program.php?id=11" TargetMode="External"/><Relationship Id="rId17" Type="http://schemas.openxmlformats.org/officeDocument/2006/relationships/hyperlink" Target="http://www.sctech.edu/academics/program.php?id=17" TargetMode="External"/><Relationship Id="rId18" Type="http://schemas.openxmlformats.org/officeDocument/2006/relationships/hyperlink" Target="http://www.sctech.edu/academics/program.php?id=25" TargetMode="External"/><Relationship Id="rId19" Type="http://schemas.openxmlformats.org/officeDocument/2006/relationships/hyperlink" Target="http://www.sctech.edu/academics/program.php?id=39" TargetMode="External"/><Relationship Id="rId20" Type="http://schemas.openxmlformats.org/officeDocument/2006/relationships/hyperlink" Target="http://www.sctech.edu/academics/program.php?id=118" TargetMode="External"/><Relationship Id="rId21" Type="http://schemas.openxmlformats.org/officeDocument/2006/relationships/hyperlink" Target="http://www.sctech.edu/academics/program.php?id=40" TargetMode="External"/><Relationship Id="rId22" Type="http://schemas.openxmlformats.org/officeDocument/2006/relationships/hyperlink" Target="http://www.sctech.edu/academics/program.php?id=75" TargetMode="External"/><Relationship Id="rId23" Type="http://schemas.openxmlformats.org/officeDocument/2006/relationships/hyperlink" Target="http://www.sctech.edu/academics/program.php?id=76" TargetMode="External"/><Relationship Id="rId24" Type="http://schemas.openxmlformats.org/officeDocument/2006/relationships/hyperlink" Target="http://www.sctech.edu/academics/program.php?id=89" TargetMode="External"/><Relationship Id="rId25" Type="http://schemas.openxmlformats.org/officeDocument/2006/relationships/hyperlink" Target="http://www.sctech.edu/academics/program.php?id=92" TargetMode="External"/><Relationship Id="rId26" Type="http://schemas.openxmlformats.org/officeDocument/2006/relationships/hyperlink" Target="http://www.sctech.edu/academics/program.php?id=96" TargetMode="External"/><Relationship Id="rId27" Type="http://schemas.openxmlformats.org/officeDocument/2006/relationships/hyperlink" Target="http://www.sctech.edu/academics/program.php?id=109" TargetMode="External"/><Relationship Id="rId28" Type="http://schemas.openxmlformats.org/officeDocument/2006/relationships/hyperlink" Target="http://www.sctech.edu/academics/program.php?id=119" TargetMode="External"/><Relationship Id="rId29" Type="http://schemas.openxmlformats.org/officeDocument/2006/relationships/hyperlink" Target="http://www.sctech.edu/academics/program.php?id=143" TargetMode="External"/><Relationship Id="rId30" Type="http://schemas.openxmlformats.org/officeDocument/2006/relationships/hyperlink" Target="http://www.sctech.edu/academics/program.php?id=160" TargetMode="External"/><Relationship Id="rId31" Type="http://schemas.openxmlformats.org/officeDocument/2006/relationships/hyperlink" Target="http://www.sctech.edu/academics/program.php?id=27" TargetMode="External"/><Relationship Id="rId32" Type="http://schemas.openxmlformats.org/officeDocument/2006/relationships/hyperlink" Target="http://www.sctech.edu/academics/program.php?id=60" TargetMode="External"/><Relationship Id="rId33" Type="http://schemas.openxmlformats.org/officeDocument/2006/relationships/hyperlink" Target="http://www.sctech.edu/academics/program.php?id=69" TargetMode="External"/><Relationship Id="rId34" Type="http://schemas.openxmlformats.org/officeDocument/2006/relationships/hyperlink" Target="http://www.sctech.edu/academics/program.php?id=83" TargetMode="External"/><Relationship Id="rId35" Type="http://schemas.openxmlformats.org/officeDocument/2006/relationships/hyperlink" Target="http://www.sctech.edu/academics/program.php?id=83" TargetMode="External"/><Relationship Id="rId36" Type="http://schemas.openxmlformats.org/officeDocument/2006/relationships/hyperlink" Target="http://www.sctech.edu/academics/program.php?id=160" TargetMode="External"/><Relationship Id="rId37" Type="http://schemas.openxmlformats.org/officeDocument/2006/relationships/hyperlink" Target="http://www.sctech.edu/academics/program.php?id=138" TargetMode="External"/><Relationship Id="rId38" Type="http://schemas.openxmlformats.org/officeDocument/2006/relationships/image" Target="../media/image5.jpeg"/><Relationship Id="rId39" Type="http://schemas.openxmlformats.org/officeDocument/2006/relationships/image" Target="../media/image6.jpeg"/><Relationship Id="rId40" Type="http://schemas.openxmlformats.org/officeDocument/2006/relationships/image" Target="../media/image7.jpeg"/><Relationship Id="rId41" Type="http://schemas.openxmlformats.org/officeDocument/2006/relationships/image" Target="../media/image8.jpeg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Unemploym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hoice typically causes major lifestyle adjustments for a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supporting yourself/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ing a place to live independent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ing luxury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creating long term financial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Top-10-College-Majors-That-Lead-to-High-Salaries-2011-v1_0.png"/>
          <p:cNvPicPr/>
          <p:nvPr/>
        </p:nvPicPr>
        <p:blipFill>
          <a:blip r:embed="rId1"/>
          <a:stretch/>
        </p:blipFill>
        <p:spPr>
          <a:xfrm>
            <a:off x="609480" y="0"/>
            <a:ext cx="78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s you may  be qualified for with your High School Diplom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Mcdonalds"/>
          <p:cNvPicPr/>
          <p:nvPr/>
        </p:nvPicPr>
        <p:blipFill>
          <a:blip r:embed="rId1"/>
          <a:stretch/>
        </p:blipFill>
        <p:spPr>
          <a:xfrm>
            <a:off x="914400" y="2819520"/>
            <a:ext cx="1571760" cy="150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hillips66"/>
          <p:cNvPicPr/>
          <p:nvPr/>
        </p:nvPicPr>
        <p:blipFill>
          <a:blip r:embed="rId2"/>
          <a:stretch/>
        </p:blipFill>
        <p:spPr>
          <a:xfrm>
            <a:off x="3352680" y="3581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almart"/>
          <p:cNvPicPr/>
          <p:nvPr/>
        </p:nvPicPr>
        <p:blipFill>
          <a:blip r:embed="rId3"/>
          <a:stretch/>
        </p:blipFill>
        <p:spPr>
          <a:xfrm>
            <a:off x="6781680" y="457200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Option 2:  High School Diplo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ages with H.S. Diplo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s are typically low for a person with a High School Dipl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able to earn a certification while in high school for a specific career program you can earn high wages upon graduation and employ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minimum wage in Georgia is $5.15  / hou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of your career an employee with hopefully have the potential to earn close to $18.00 per 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areer Earnings/Retirem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previous slide a person would average around $11.50/hour during their care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fespan of a career begins from the age you start until you retire.  Est. ages 18-65 which is 47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son getting paid 11.50/hour for fulltime work which is 40 hours/week would earn $460.00 x 52 weeks in a year = $23,920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vernment takes 25% in taxes, social security, and Medi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,920 – 5,980 = $17,940 after taxes take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work 47 years earning $17,940 per year you will earn $843,180 during your career up to retir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echnical Colleg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2 year degre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s offe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Central Sterile Supply Processing Technician - Adv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Direct Support Profess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Electrocardiography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ealth Care Assist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Health Care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Hem dialysis Patient Care Specia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Nurse A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Patient Care Assist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Phlebotomy Technic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0"/>
              </a:rPr>
              <a:t>Polysomnography Technic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1"/>
              </a:rPr>
              <a:t>Criminal Justice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2"/>
              </a:rPr>
              <a:t>Fire Science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3"/>
              </a:rPr>
              <a:t>Forensic Science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screscent_logo.jpg"/>
          <p:cNvPicPr/>
          <p:nvPr/>
        </p:nvPicPr>
        <p:blipFill>
          <a:blip r:embed="rId14"/>
          <a:stretch/>
        </p:blipFill>
        <p:spPr>
          <a:xfrm>
            <a:off x="6095880" y="1219320"/>
            <a:ext cx="2476800" cy="990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3809880" y="2057400"/>
            <a:ext cx="281952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5"/>
              </a:rPr>
              <a:t>Paramedic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6"/>
              </a:rPr>
              <a:t>Air Conditioning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7"/>
              </a:rPr>
              <a:t>Auto Collision Repai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8"/>
              </a:rPr>
              <a:t>Automotive Fundamental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9"/>
              </a:rPr>
              <a:t>Carpent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0"/>
              </a:rPr>
              <a:t>CNC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1"/>
              </a:rPr>
              <a:t>Construction Manag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2"/>
              </a:rPr>
              <a:t>Diesel Equipment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3"/>
              </a:rPr>
              <a:t>Drafting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4"/>
              </a:rPr>
              <a:t>Electrical Systems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5"/>
              </a:rPr>
              <a:t>Electronics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6"/>
              </a:rPr>
              <a:t>Horticultu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7"/>
              </a:rPr>
              <a:t>Industrial Systems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8"/>
              </a:rPr>
              <a:t>Machine Tool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9"/>
              </a:rPr>
              <a:t>Plumb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0"/>
              </a:rPr>
              <a:t>Welding and Joining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1"/>
              </a:rPr>
              <a:t>Barbe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2"/>
              </a:rPr>
              <a:t>Cosmet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3"/>
              </a:rPr>
              <a:t>Culinary Ar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4"/>
              </a:rPr>
              <a:t>Early Childhood Care/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5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6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7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629400" y="243828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ntal Assist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cal Assist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rmacy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actical Nurs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rgical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9" descr="lanier_logo.jpg"/>
          <p:cNvPicPr/>
          <p:nvPr/>
        </p:nvPicPr>
        <p:blipFill>
          <a:blip r:embed="rId38"/>
          <a:stretch/>
        </p:blipFill>
        <p:spPr>
          <a:xfrm>
            <a:off x="6705720" y="4952880"/>
            <a:ext cx="1904760" cy="8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tlanta_logo.jpg"/>
          <p:cNvPicPr/>
          <p:nvPr/>
        </p:nvPicPr>
        <p:blipFill>
          <a:blip r:embed="rId39"/>
          <a:stretch/>
        </p:blipFill>
        <p:spPr>
          <a:xfrm>
            <a:off x="3809880" y="1219320"/>
            <a:ext cx="198144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gtc_logo.jpg"/>
          <p:cNvPicPr/>
          <p:nvPr/>
        </p:nvPicPr>
        <p:blipFill>
          <a:blip r:embed="rId40"/>
          <a:stretch/>
        </p:blipFill>
        <p:spPr>
          <a:xfrm>
            <a:off x="380880" y="533520"/>
            <a:ext cx="1879560" cy="63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iddlega_logo.jpg"/>
          <p:cNvPicPr/>
          <p:nvPr/>
        </p:nvPicPr>
        <p:blipFill>
          <a:blip r:embed="rId41"/>
          <a:stretch/>
        </p:blipFill>
        <p:spPr>
          <a:xfrm>
            <a:off x="6781680" y="3733920"/>
            <a:ext cx="1428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echnical College Degree Wag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may still be paid hourly or possibly by salary depending on the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wages with a 1-2 year degree are:  $35,000 – $55,000 per year depending on the field of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n employee averages throughout their career $45,000 per year annual salary minus the 25% tax, Medicare, social security they would have $33,750 per year take home sal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areer earning, estimated on working for 45 years after earning their degree would be:  $1,518,75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4 year College or University Pr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helor’s Degree is 4-5 years of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s avail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57200" y="251460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otive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ion Management and Construction  Engineer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iculum and I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omics, Finance and Ba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276720" y="2514600"/>
            <a:ext cx="281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ering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mily and Consumer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ic and Imaging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, Human Performance and Re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, Philosophy, Social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discipli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and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172200" y="2514600"/>
            <a:ext cx="266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itar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rn Languages and 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ychology and 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Services and Lead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tor/Med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4 year College or University Degree Wage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helors Degree wages on average can range between $35,000 – $130,000 per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egrees can be earned:  Masters, Doctorate, Doctorial, Leadership, Special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$60,000 as the average earnings for a person with a degree from a universit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may earn around $45,000 take home after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4 year College or University Degree Wage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time Career earnings:  $1,935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n be lower if the person can retire in less than 43 years, however, you are paid retirement until you are decea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header_logo.png"/>
          <p:cNvPicPr/>
          <p:nvPr/>
        </p:nvPicPr>
        <p:blipFill>
          <a:blip r:embed="rId1"/>
          <a:stretch/>
        </p:blipFill>
        <p:spPr>
          <a:xfrm>
            <a:off x="3505320" y="3581280"/>
            <a:ext cx="2361960" cy="181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kan-08-masthead.jpg"/>
          <p:cNvPicPr/>
          <p:nvPr/>
        </p:nvPicPr>
        <p:blipFill>
          <a:blip r:embed="rId2"/>
          <a:stretch/>
        </p:blipFill>
        <p:spPr>
          <a:xfrm>
            <a:off x="838080" y="5486400"/>
            <a:ext cx="76485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2:34Z</dcterms:created>
  <dc:creator>GSCS</dc:creator>
  <dc:description/>
  <dc:language>en-US</dc:language>
  <cp:lastModifiedBy>Johnson</cp:lastModifiedBy>
  <dcterms:modified xsi:type="dcterms:W3CDTF">2012-05-27T15:54:05Z</dcterms:modified>
  <cp:revision>8</cp:revision>
  <dc:subject/>
  <dc:title>Unemployment</dc:title>
</cp:coreProperties>
</file>